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9DE4-C083-4235-8C35-3D6449488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感谢大家参与本次“创业课堂”巡讲活动。下面跟大家分享下创业基金会在做的与在座各位相关的一些事情，希望为已经创业或可能创业的你带来帮助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2D2D-8E84-4B42-BA28-1E664FC24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10BF-2D83-41B0-BC31-430D47EC6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F7BB-B298-49A1-AD61-CD4EA6D953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8E64-5FDC-4931-9FAB-0FD271D21E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我们成立于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月，上海，中国的金融中心，一个以金融创新推动科技进步的地方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换屏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CF59-2B2E-4A3E-BC7E-140288FD3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F41D-2332-422C-BB58-5EBA566697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966F-8F04-46BD-A10D-957A193D3E8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我们是一家公益机构，我们秉承不以营利为目的公益理念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换屏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D3F6-ED52-47FF-B7D4-24D9EC491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我们专注于帮助正在创业路上的你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换句话说，所有与创业有关的事情，都可以寻求我们的帮助和支持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换屏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D988-D7E5-45F8-ABB7-CD258CCBA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我们的全称是“上海市大学生科技创业基金会”，我们立足于上海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但我们不仅仅帮助和支持上海的创业者，我们正在逐步走向全国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所以，让我们把“上海市”去掉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换屏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49EF-9E16-4AF9-982B-8001D5FC2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业基金会不仅仅关注大学生创业，而是面向整个青年创业群体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所以，如果你毕业了，仍然可以在这里得到帮助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换屏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B754-F5BC-4B07-95AF-2DE746C67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我们关注科技创新，但对于缺乏科技含量的创业想法，我们同样支持。比如说：开个淘宝店、包子铺什么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，让我们把“科技”也去掉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换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7E6E-3BFC-4327-AC9B-CA48C7E24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这就是我们，“创业基金会”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换屏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AD7E-9FD2-40AE-B787-572C9F329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这就是我们，“创业基金会”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换屏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EA11-819A-4D98-AB74-1B8B6FDDC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6EFE-6CF1-48A9-A99C-A16883CA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823104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034800"/>
            <a:ext cx="823104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B767-ED79-40EB-A8AA-67445F14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03480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960" y="303480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A166-E7EB-4101-8C46-085C252F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360" y="132984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3520" y="132984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03480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360" y="303480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3520" y="303480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5FB3-F531-4381-9D69-3D34ECAB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B137-06C1-4E76-9230-D1FC39C9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29840"/>
            <a:ext cx="8231040" cy="32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B031-3154-4BBF-B4B6-D1E3A273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823104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CEF1-BE1F-411F-B92B-BC9F90A1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D73D-D8E1-43A2-8EE8-B92F2EFB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5589-8EB4-4A6B-A0D0-FB9AC32A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36160" y="410760"/>
            <a:ext cx="4962600" cy="15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1A91-D17A-4D50-ADCA-2B11CD49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03480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3514-BFAE-4596-BA3A-3D8B1484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29840"/>
            <a:ext cx="8231040" cy="32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60C-7B4F-4DC2-802D-CA88F4F7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960" y="303480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8AA5-6607-4FCF-BDE8-147A92D0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034800"/>
            <a:ext cx="823104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078E-7C97-4C97-83A5-C9445C02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823104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034800"/>
            <a:ext cx="823104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3E68-52DE-45EB-9513-B2065D69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03480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960" y="303480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3EB5-999A-4948-AB0B-7FFC1D65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0360" y="132984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3520" y="132984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03480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0360" y="303480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3520" y="303480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417F-508C-4392-AD6A-21C50782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3753C-B5F1-4F10-8075-B31AD87B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329840"/>
            <a:ext cx="8231040" cy="32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1D952-092E-49E7-AE31-3D8FA09C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823104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FAE01-E2E7-4D60-9E88-8B7E1505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33550-E8D1-437D-9EBF-27FEA788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AA769-8282-48BA-8493-218C1A70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823104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9968-4730-4267-AD8D-72F62976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60" y="410760"/>
            <a:ext cx="4962600" cy="15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C7778-0D78-47AA-9B26-7395A817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03480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1DBCD-FCC5-409F-814A-CBA2309E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960" y="303480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25938-ED8E-4570-A3C3-6A069E5D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034800"/>
            <a:ext cx="823104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ECF8F-811C-4404-8693-99523A5B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823104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034800"/>
            <a:ext cx="823104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BA578-1B92-41EC-8700-69167711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03480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960" y="303480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C7E36-D8B9-4BFC-81DF-7D4E90BC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40360" y="132984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3520" y="132984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03480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40360" y="303480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3520" y="303480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9EB8A-EA27-4BCD-8456-13E48188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E92E9-F17E-4306-B807-CFCA8888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329840"/>
            <a:ext cx="8231040" cy="32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ACB2F-1897-46B8-A937-76541D30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823104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2B328-7303-4EB2-9A87-E832AE05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C19-C4F2-4D02-B68F-1FE694DC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2B03E-DD80-4AD2-B15D-6EE4A585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06D12-B258-4614-95EB-8DF4596A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36160" y="410760"/>
            <a:ext cx="4962600" cy="15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079E1-7CB2-4066-BD0D-915BC62A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03480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4CAC0-C182-4956-A103-230A0844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960" y="303480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3C299-BC18-45A8-A783-08A09447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034800"/>
            <a:ext cx="823104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79DCF-9A4A-4416-86AA-7EB7F164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823104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034800"/>
            <a:ext cx="823104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71662-A91D-43A7-AE47-8EF9F762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03480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960" y="303480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92A55-F7C5-415B-9696-97CB5289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40360" y="132984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3520" y="132984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03480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40360" y="303480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3520" y="303480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A812E-2E05-47CC-AD5E-3E54B1B2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52A3C-25EB-4986-A438-AE4D47E3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87F2-82E5-4A21-A16D-784DBF3B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329840"/>
            <a:ext cx="8231040" cy="32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03FE8-DD35-4B87-8C6A-7F21F817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823104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38D76-B95D-4524-8AFF-1FF95863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A9E36-632F-4AE4-9E50-E376C386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347D8-C813-4AF4-BAAF-F1BC6EB9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36160" y="410760"/>
            <a:ext cx="4962600" cy="15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06079-F6C1-475B-8087-F9CA52FA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03480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CF727-19D3-49E6-AC38-7AC7D6BE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960" y="303480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54459-B117-4676-A1A2-284FB6A1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034800"/>
            <a:ext cx="823104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9676C-9547-48E3-B5C5-F9629292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823104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034800"/>
            <a:ext cx="823104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E4A31-74C5-4758-9A63-FDD9EA93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03480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960" y="303480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FC739-8422-4A14-A117-5F0F0D8E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160" y="410760"/>
            <a:ext cx="4962600" cy="15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D2E-9014-4BFD-B004-8025BB42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40360" y="132984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3520" y="132984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03480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40360" y="303480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3520" y="3034800"/>
            <a:ext cx="26503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A28FB-8379-4730-872F-85EA51F1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03480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FCA-936C-4B77-8988-4637A5B9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960" y="303480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AB5-F2CB-4CD2-B347-92B9D75E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160" y="369000"/>
            <a:ext cx="4962600" cy="420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960" y="1329840"/>
            <a:ext cx="401652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034800"/>
            <a:ext cx="8231040" cy="1556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2D5-91E1-46CA-9D72-1B2BACB1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len\Desktop\ic01700903.jpg"/>
          <p:cNvPicPr/>
          <p:nvPr/>
        </p:nvPicPr>
        <p:blipFill>
          <a:blip r:embed="rId2"/>
          <a:srcRect l="0" t="48535" r="23919" b="18696"/>
          <a:stretch/>
        </p:blipFill>
        <p:spPr>
          <a:xfrm>
            <a:off x="6453360" y="2338560"/>
            <a:ext cx="2393640" cy="1309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D:\14品牌建设\logo\内部logo\EFG\创业基金会logo.jpg"/>
          <p:cNvPicPr/>
          <p:nvPr/>
        </p:nvPicPr>
        <p:blipFill>
          <a:blip r:embed="rId3"/>
          <a:srcRect l="1367" t="34003" r="0" b="38002"/>
          <a:stretch/>
        </p:blipFill>
        <p:spPr>
          <a:xfrm>
            <a:off x="125280" y="120600"/>
            <a:ext cx="1766880" cy="5018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cover"/>
          <p:cNvPicPr/>
          <p:nvPr/>
        </p:nvPicPr>
        <p:blipFill>
          <a:blip r:embed="rId4"/>
          <a:srcRect l="0" t="94294" r="0" b="0"/>
          <a:stretch/>
        </p:blipFill>
        <p:spPr>
          <a:xfrm>
            <a:off x="0" y="3478320"/>
            <a:ext cx="9144000" cy="223668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5711760" y="3478320"/>
            <a:ext cx="3373200" cy="2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360" rIns="7236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Entrepreneurship Foundation for Graduat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456840" y="529560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72360" rIns="72360" tIns="36360" bIns="36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529560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72360" rIns="72360" tIns="36360" bIns="36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2720" y="529560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72360" rIns="72360" tIns="36360" bIns="36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BF56-EDD0-4A4F-BD75-BF323A90ACAA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529560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72360" rIns="72360" tIns="36360" bIns="36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529560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72360" rIns="72360" tIns="36360" bIns="36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529560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72360" rIns="72360" tIns="36360" bIns="36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5491-E910-47B4-99D0-A646AC26BBAE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C:\Users\len\Desktop\ic01700903.jpg"/>
          <p:cNvPicPr/>
          <p:nvPr/>
        </p:nvPicPr>
        <p:blipFill>
          <a:blip r:embed="rId2"/>
          <a:srcRect l="0" t="48535" r="23919" b="18696"/>
          <a:stretch/>
        </p:blipFill>
        <p:spPr>
          <a:xfrm>
            <a:off x="6338880" y="2903400"/>
            <a:ext cx="2622600" cy="1436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D:\14品牌建设\logo\内部logo\EFG\创业基金会logo.jpg"/>
          <p:cNvPicPr/>
          <p:nvPr/>
        </p:nvPicPr>
        <p:blipFill>
          <a:blip r:embed="rId3"/>
          <a:srcRect l="1367" t="34003" r="0" b="38002"/>
          <a:stretch/>
        </p:blipFill>
        <p:spPr>
          <a:xfrm>
            <a:off x="125280" y="120600"/>
            <a:ext cx="176688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over"/>
          <p:cNvPicPr/>
          <p:nvPr/>
        </p:nvPicPr>
        <p:blipFill>
          <a:blip r:embed="rId4"/>
          <a:srcRect l="0" t="94294" r="0" b="0"/>
          <a:stretch/>
        </p:blipFill>
        <p:spPr>
          <a:xfrm>
            <a:off x="0" y="4111560"/>
            <a:ext cx="9144000" cy="1603440"/>
          </a:xfrm>
          <a:prstGeom prst="rect">
            <a:avLst/>
          </a:prstGeom>
          <a:ln w="0">
            <a:noFill/>
          </a:ln>
        </p:spPr>
      </p:pic>
      <p:sp>
        <p:nvSpPr>
          <p:cNvPr id="49" name="矩形 9"/>
          <p:cNvSpPr/>
          <p:nvPr/>
        </p:nvSpPr>
        <p:spPr>
          <a:xfrm>
            <a:off x="5597640" y="4129200"/>
            <a:ext cx="3373200" cy="2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360" rIns="7236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Entrepreneurship Foundation for Graduat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0" y="301680"/>
            <a:ext cx="9144000" cy="590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329840"/>
            <a:ext cx="823104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 fontScale="79000"/>
          </a:bodyPr>
          <a:p>
            <a:pPr marL="249480" indent="-2494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544320" indent="-20952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833760" indent="-16380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170000" indent="-16524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504800" indent="-16524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504800" indent="-16524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504800" indent="-16524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56840" y="5210280"/>
            <a:ext cx="2135160" cy="396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8"/>
          </p:nvPr>
        </p:nvSpPr>
        <p:spPr>
          <a:xfrm>
            <a:off x="3124080" y="5210280"/>
            <a:ext cx="2897280" cy="396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9"/>
          </p:nvPr>
        </p:nvSpPr>
        <p:spPr>
          <a:xfrm>
            <a:off x="6552720" y="5210280"/>
            <a:ext cx="2135160" cy="396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2ED9-6AF9-4994-9E5A-A9969D3635FA}" type="slidenum">
              <a:rPr b="0" lang="en-US" sz="13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title"/>
          </p:nvPr>
        </p:nvSpPr>
        <p:spPr>
          <a:xfrm>
            <a:off x="236160" y="410760"/>
            <a:ext cx="4962600" cy="3366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5896440" y="5423040"/>
            <a:ext cx="289764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360" rIns="7236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Arial"/>
              </a:rPr>
              <a:t>Entrepreneurship Foundation for Graduat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C:\Users\len\Desktop\ic01700903.jpg"/>
          <p:cNvPicPr/>
          <p:nvPr/>
        </p:nvPicPr>
        <p:blipFill>
          <a:blip r:embed="rId2"/>
          <a:srcRect l="0" t="48535" r="23919" b="18696"/>
          <a:stretch/>
        </p:blipFill>
        <p:spPr>
          <a:xfrm>
            <a:off x="6338880" y="2903400"/>
            <a:ext cx="2622600" cy="1436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D:\14品牌建设\logo\内部logo\EFG\创业基金会logo.jpg"/>
          <p:cNvPicPr/>
          <p:nvPr/>
        </p:nvPicPr>
        <p:blipFill>
          <a:blip r:embed="rId3"/>
          <a:srcRect l="1367" t="34003" r="0" b="38002"/>
          <a:stretch/>
        </p:blipFill>
        <p:spPr>
          <a:xfrm>
            <a:off x="125280" y="120600"/>
            <a:ext cx="1766880" cy="501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over"/>
          <p:cNvPicPr/>
          <p:nvPr/>
        </p:nvPicPr>
        <p:blipFill>
          <a:blip r:embed="rId4"/>
          <a:srcRect l="0" t="94294" r="0" b="0"/>
          <a:stretch/>
        </p:blipFill>
        <p:spPr>
          <a:xfrm>
            <a:off x="0" y="4111560"/>
            <a:ext cx="9144000" cy="1603440"/>
          </a:xfrm>
          <a:prstGeom prst="rect">
            <a:avLst/>
          </a:prstGeom>
          <a:ln w="0">
            <a:noFill/>
          </a:ln>
        </p:spPr>
      </p:pic>
      <p:sp>
        <p:nvSpPr>
          <p:cNvPr id="132" name="矩形 9"/>
          <p:cNvSpPr/>
          <p:nvPr/>
        </p:nvSpPr>
        <p:spPr>
          <a:xfrm>
            <a:off x="5597640" y="4129200"/>
            <a:ext cx="3373200" cy="2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360" rIns="7236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Entrepreneurship Foundation for Graduat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dt" idx="10"/>
          </p:nvPr>
        </p:nvSpPr>
        <p:spPr>
          <a:xfrm>
            <a:off x="456840" y="529560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72360" rIns="72360" tIns="36360" bIns="36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ftr" idx="11"/>
          </p:nvPr>
        </p:nvSpPr>
        <p:spPr>
          <a:xfrm>
            <a:off x="3124080" y="529560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72360" rIns="72360" tIns="36360" bIns="36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12"/>
          </p:nvPr>
        </p:nvSpPr>
        <p:spPr>
          <a:xfrm>
            <a:off x="6552720" y="529560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72360" rIns="72360" tIns="36360" bIns="36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A323-F459-4C70-AABE-F5253051B2F6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C:\Users\len\Desktop\ic01700903.jpg"/>
          <p:cNvPicPr/>
          <p:nvPr/>
        </p:nvPicPr>
        <p:blipFill>
          <a:blip r:embed="rId2"/>
          <a:srcRect l="0" t="48535" r="23919" b="18696"/>
          <a:stretch/>
        </p:blipFill>
        <p:spPr>
          <a:xfrm>
            <a:off x="6338880" y="2903400"/>
            <a:ext cx="2622600" cy="1436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D:\14品牌建设\logo\内部logo\EFG\创业基金会logo.jpg"/>
          <p:cNvPicPr/>
          <p:nvPr/>
        </p:nvPicPr>
        <p:blipFill>
          <a:blip r:embed="rId3"/>
          <a:srcRect l="1367" t="34003" r="0" b="38002"/>
          <a:stretch/>
        </p:blipFill>
        <p:spPr>
          <a:xfrm>
            <a:off x="125280" y="120600"/>
            <a:ext cx="1766880" cy="501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over"/>
          <p:cNvPicPr/>
          <p:nvPr/>
        </p:nvPicPr>
        <p:blipFill>
          <a:blip r:embed="rId4"/>
          <a:srcRect l="0" t="94294" r="0" b="0"/>
          <a:stretch/>
        </p:blipFill>
        <p:spPr>
          <a:xfrm>
            <a:off x="0" y="4111560"/>
            <a:ext cx="9144000" cy="1603440"/>
          </a:xfrm>
          <a:prstGeom prst="rect">
            <a:avLst/>
          </a:prstGeom>
          <a:ln w="0">
            <a:noFill/>
          </a:ln>
        </p:spPr>
      </p:pic>
      <p:sp>
        <p:nvSpPr>
          <p:cNvPr id="175" name="矩形 9"/>
          <p:cNvSpPr/>
          <p:nvPr/>
        </p:nvSpPr>
        <p:spPr>
          <a:xfrm>
            <a:off x="5597640" y="4129200"/>
            <a:ext cx="3373200" cy="2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360" rIns="7236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Entrepreneurship Foundation for Graduat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dt" idx="13"/>
          </p:nvPr>
        </p:nvSpPr>
        <p:spPr>
          <a:xfrm>
            <a:off x="456840" y="529560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72360" rIns="72360" tIns="36360" bIns="36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ftr" idx="14"/>
          </p:nvPr>
        </p:nvSpPr>
        <p:spPr>
          <a:xfrm>
            <a:off x="3124080" y="529560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72360" rIns="72360" tIns="36360" bIns="36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5"/>
          </p:nvPr>
        </p:nvSpPr>
        <p:spPr>
          <a:xfrm>
            <a:off x="6552720" y="529560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72360" rIns="72360" tIns="36360" bIns="36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4588-9681-4C7A-9C07-393403859FC3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430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72360" rIns="72360" tIns="36360" bIns="363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市大学生科技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业基金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160" y="410760"/>
            <a:ext cx="4962600" cy="3366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天使基金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42" name="Picture 9" descr="雄鹰计划1"/>
          <p:cNvPicPr/>
          <p:nvPr/>
        </p:nvPicPr>
        <p:blipFill>
          <a:blip r:embed="rId1"/>
          <a:stretch/>
        </p:blipFill>
        <p:spPr>
          <a:xfrm>
            <a:off x="4500720" y="2960640"/>
            <a:ext cx="2808000" cy="879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雏鹰计划1"/>
          <p:cNvPicPr/>
          <p:nvPr/>
        </p:nvPicPr>
        <p:blipFill>
          <a:blip r:embed="rId2"/>
          <a:stretch/>
        </p:blipFill>
        <p:spPr>
          <a:xfrm>
            <a:off x="826920" y="3032280"/>
            <a:ext cx="2560680" cy="836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天使基金"/>
          <p:cNvPicPr/>
          <p:nvPr/>
        </p:nvPicPr>
        <p:blipFill>
          <a:blip r:embed="rId3"/>
          <a:srcRect l="0" t="5482" r="0" b="12308"/>
          <a:stretch/>
        </p:blipFill>
        <p:spPr>
          <a:xfrm>
            <a:off x="2916360" y="800280"/>
            <a:ext cx="2904840" cy="10810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9"/>
          <p:cNvSpPr/>
          <p:nvPr/>
        </p:nvSpPr>
        <p:spPr>
          <a:xfrm>
            <a:off x="4608360" y="3793680"/>
            <a:ext cx="3780000" cy="15757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ctr">
            <a:spAutoFit/>
          </a:bodyPr>
          <a:p>
            <a:pPr marL="223920" indent="-22392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66"/>
                </a:solidFill>
                <a:latin typeface="微软雅黑"/>
                <a:ea typeface="微软雅黑"/>
              </a:rPr>
              <a:t>股权投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66"/>
                </a:solidFill>
                <a:latin typeface="微软雅黑"/>
                <a:ea typeface="微软雅黑"/>
              </a:rPr>
              <a:t>最高</a:t>
            </a:r>
            <a:r>
              <a:rPr b="1" lang="en-US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50</a:t>
            </a: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66"/>
                </a:solidFill>
                <a:latin typeface="微软雅黑"/>
                <a:ea typeface="微软雅黑"/>
              </a:rPr>
              <a:t>资助期</a:t>
            </a:r>
            <a:r>
              <a:rPr b="1" lang="en-US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66"/>
                </a:solidFill>
                <a:latin typeface="微软雅黑"/>
                <a:ea typeface="微软雅黑"/>
              </a:rPr>
              <a:t>到期</a:t>
            </a: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原价</a:t>
            </a:r>
            <a:r>
              <a:rPr b="1" lang="zh-CN" sz="1600" spc="-1" strike="noStrike">
                <a:solidFill>
                  <a:srgbClr val="000066"/>
                </a:solidFill>
                <a:latin typeface="微软雅黑"/>
                <a:ea typeface="微软雅黑"/>
              </a:rPr>
              <a:t>回购股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942840" y="3793680"/>
            <a:ext cx="3268800" cy="15757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ctr">
            <a:spAutoFit/>
          </a:bodyPr>
          <a:p>
            <a:pPr marL="223920" indent="-22392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66"/>
                </a:solidFill>
                <a:latin typeface="微软雅黑"/>
                <a:ea typeface="微软雅黑"/>
              </a:rPr>
              <a:t>信用贷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66"/>
                </a:solidFill>
                <a:latin typeface="微软雅黑"/>
                <a:ea typeface="微软雅黑"/>
              </a:rPr>
              <a:t>最高</a:t>
            </a:r>
            <a:r>
              <a:rPr b="1" lang="en-US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20</a:t>
            </a: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66"/>
                </a:solidFill>
                <a:latin typeface="微软雅黑"/>
                <a:ea typeface="微软雅黑"/>
              </a:rPr>
              <a:t>资助期</a:t>
            </a: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66"/>
                </a:solidFill>
                <a:latin typeface="微软雅黑"/>
                <a:ea typeface="微软雅黑"/>
              </a:rPr>
              <a:t>本金按</a:t>
            </a:r>
            <a:r>
              <a:rPr b="1" lang="en-US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36</a:t>
            </a: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月</a:t>
            </a:r>
            <a:r>
              <a:rPr b="1" lang="zh-CN" sz="1600" spc="-1" strike="noStrike">
                <a:solidFill>
                  <a:srgbClr val="000066"/>
                </a:solidFill>
                <a:latin typeface="微软雅黑"/>
                <a:ea typeface="微软雅黑"/>
              </a:rPr>
              <a:t>等额还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8"/>
          <p:cNvSpPr/>
          <p:nvPr/>
        </p:nvSpPr>
        <p:spPr>
          <a:xfrm>
            <a:off x="826920" y="3002040"/>
            <a:ext cx="770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矩形 9" descr=""/>
          <p:cNvPicPr/>
          <p:nvPr/>
        </p:nvPicPr>
        <p:blipFill>
          <a:blip r:embed="rId4"/>
          <a:stretch/>
        </p:blipFill>
        <p:spPr>
          <a:xfrm>
            <a:off x="549360" y="1822320"/>
            <a:ext cx="804060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60" y="410760"/>
            <a:ext cx="4962600" cy="3366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成果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823104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zh-CN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71680" y="1500120"/>
            <a:ext cx="800244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noAutofit/>
          </a:bodyPr>
          <a:p>
            <a:pPr marL="316080" indent="-316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截至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累计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4095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项目申请，资助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050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项目，已资助额近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元，解除资助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359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企业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标题 1"/>
          <p:cNvSpPr/>
          <p:nvPr/>
        </p:nvSpPr>
        <p:spPr>
          <a:xfrm>
            <a:off x="236520" y="411120"/>
            <a:ext cx="4962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申请条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示 3" descr=""/>
          <p:cNvPicPr/>
          <p:nvPr/>
        </p:nvPicPr>
        <p:blipFill>
          <a:blip r:embed="rId1"/>
          <a:stretch/>
        </p:blipFill>
        <p:spPr>
          <a:xfrm>
            <a:off x="49320" y="901800"/>
            <a:ext cx="896616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标题 1"/>
          <p:cNvSpPr/>
          <p:nvPr/>
        </p:nvSpPr>
        <p:spPr>
          <a:xfrm>
            <a:off x="236520" y="411120"/>
            <a:ext cx="4962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资助要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示 9" descr=""/>
          <p:cNvPicPr/>
          <p:nvPr/>
        </p:nvPicPr>
        <p:blipFill>
          <a:blip r:embed="rId1"/>
          <a:stretch/>
        </p:blipFill>
        <p:spPr>
          <a:xfrm>
            <a:off x="-6480" y="907920"/>
            <a:ext cx="912672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标题 1"/>
          <p:cNvSpPr/>
          <p:nvPr/>
        </p:nvSpPr>
        <p:spPr>
          <a:xfrm>
            <a:off x="236520" y="411120"/>
            <a:ext cx="4962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资助流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示 3" descr=""/>
          <p:cNvPicPr/>
          <p:nvPr/>
        </p:nvPicPr>
        <p:blipFill>
          <a:blip r:embed="rId1"/>
          <a:stretch/>
        </p:blipFill>
        <p:spPr>
          <a:xfrm>
            <a:off x="291960" y="828720"/>
            <a:ext cx="8102880" cy="4859280"/>
          </a:xfrm>
          <a:prstGeom prst="rect">
            <a:avLst/>
          </a:prstGeom>
          <a:ln w="0">
            <a:noFill/>
          </a:ln>
        </p:spPr>
      </p:pic>
      <p:sp>
        <p:nvSpPr>
          <p:cNvPr id="258" name="同侧圆角矩形 4"/>
          <p:cNvSpPr/>
          <p:nvPr/>
        </p:nvSpPr>
        <p:spPr>
          <a:xfrm>
            <a:off x="971640" y="1000080"/>
            <a:ext cx="70754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1520" tIns="11520" bIns="11520" anchor="ctr">
            <a:noAutofit/>
          </a:bodyPr>
          <a:p>
            <a:pPr lvl="1" marL="171360" indent="-171360">
              <a:lnSpc>
                <a:spcPct val="12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申请人登录基金会项目申请系统，注册并填写创业项目及申请人等信息，并完成线上创业力测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177640" y="2401560"/>
            <a:ext cx="5187960" cy="2793960"/>
          </a:xfrm>
          <a:prstGeom prst="rect">
            <a:avLst/>
          </a:prstGeom>
          <a:noFill/>
          <a:ln w="0">
            <a:noFill/>
          </a:ln>
        </p:spPr>
        <p:txBody>
          <a:bodyPr lIns="72360" rIns="72360" tIns="36360" bIns="36360" anchor="t">
            <a:normAutofit/>
          </a:bodyPr>
          <a:p>
            <a:pPr marL="270000" indent="-2700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Calibri"/>
              </a:rPr>
              <a:t>研究生创新创业培养专项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3"/>
          <p:cNvSpPr/>
          <p:nvPr/>
        </p:nvSpPr>
        <p:spPr>
          <a:xfrm>
            <a:off x="142920" y="1251000"/>
            <a:ext cx="2963880" cy="376560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bbe0e3"/>
              </a:gs>
              <a:gs pos="100000">
                <a:srgbClr val="e6e6e6"/>
              </a:gs>
            </a:gsLst>
            <a:lin ang="0"/>
          </a:gradFill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271440" y="2678040"/>
            <a:ext cx="242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市研究生创新创业能力培养专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26"/>
          <p:cNvGrpSpPr/>
          <p:nvPr/>
        </p:nvGrpSpPr>
        <p:grpSpPr>
          <a:xfrm>
            <a:off x="3203640" y="914400"/>
            <a:ext cx="5511600" cy="4108320"/>
            <a:chOff x="3203640" y="914400"/>
            <a:chExt cx="5511600" cy="4108320"/>
          </a:xfrm>
        </p:grpSpPr>
        <p:grpSp>
          <p:nvGrpSpPr>
            <p:cNvPr id="263" name="组合 23"/>
            <p:cNvGrpSpPr/>
            <p:nvPr/>
          </p:nvGrpSpPr>
          <p:grpSpPr>
            <a:xfrm>
              <a:off x="3203640" y="914400"/>
              <a:ext cx="5511600" cy="4108320"/>
              <a:chOff x="3203640" y="914400"/>
              <a:chExt cx="5511600" cy="4108320"/>
            </a:xfrm>
          </p:grpSpPr>
          <p:sp>
            <p:nvSpPr>
              <p:cNvPr id="264" name="AutoShape 5"/>
              <p:cNvSpPr/>
              <p:nvPr/>
            </p:nvSpPr>
            <p:spPr>
              <a:xfrm>
                <a:off x="3203640" y="914400"/>
                <a:ext cx="5511600" cy="4108320"/>
              </a:xfrm>
              <a:prstGeom prst="roundRect">
                <a:avLst>
                  <a:gd name="adj" fmla="val 3481"/>
                </a:avLst>
              </a:prstGeom>
              <a:noFill/>
              <a:ln cap="rnd" w="1908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Group 8"/>
              <p:cNvGrpSpPr/>
              <p:nvPr/>
            </p:nvGrpSpPr>
            <p:grpSpPr>
              <a:xfrm>
                <a:off x="3285000" y="1044360"/>
                <a:ext cx="5326560" cy="1170360"/>
                <a:chOff x="3285000" y="1044360"/>
                <a:chExt cx="5326560" cy="1170360"/>
              </a:xfrm>
            </p:grpSpPr>
            <p:sp>
              <p:nvSpPr>
                <p:cNvPr id="266" name="AutoShape 7"/>
                <p:cNvSpPr/>
                <p:nvPr/>
              </p:nvSpPr>
              <p:spPr>
                <a:xfrm>
                  <a:off x="3286440" y="1044360"/>
                  <a:ext cx="5325120" cy="1170360"/>
                </a:xfrm>
                <a:prstGeom prst="roundRect">
                  <a:avLst>
                    <a:gd name="adj" fmla="val 10889"/>
                  </a:avLst>
                </a:pr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AutoShape 8"/>
                <p:cNvSpPr/>
                <p:nvPr/>
              </p:nvSpPr>
              <p:spPr>
                <a:xfrm>
                  <a:off x="3285000" y="1459800"/>
                  <a:ext cx="576360" cy="326160"/>
                </a:xfrm>
                <a:prstGeom prst="rightArrow">
                  <a:avLst>
                    <a:gd name="adj1" fmla="val 50000"/>
                    <a:gd name="adj2" fmla="val 73932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Group 11"/>
              <p:cNvGrpSpPr/>
              <p:nvPr/>
            </p:nvGrpSpPr>
            <p:grpSpPr>
              <a:xfrm>
                <a:off x="3285000" y="2356920"/>
                <a:ext cx="5326560" cy="1215000"/>
                <a:chOff x="3285000" y="2356920"/>
                <a:chExt cx="5326560" cy="1215000"/>
              </a:xfrm>
            </p:grpSpPr>
            <p:sp>
              <p:nvSpPr>
                <p:cNvPr id="269" name="AutoShape 10"/>
                <p:cNvSpPr/>
                <p:nvPr/>
              </p:nvSpPr>
              <p:spPr>
                <a:xfrm>
                  <a:off x="3286440" y="2356920"/>
                  <a:ext cx="5325120" cy="1215000"/>
                </a:xfrm>
                <a:prstGeom prst="roundRect">
                  <a:avLst>
                    <a:gd name="adj" fmla="val 10889"/>
                  </a:avLst>
                </a:prstGeom>
                <a:solidFill>
                  <a:srgbClr val="eff96f">
                    <a:alpha val="8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11"/>
                <p:cNvSpPr/>
                <p:nvPr/>
              </p:nvSpPr>
              <p:spPr>
                <a:xfrm>
                  <a:off x="3285000" y="2742480"/>
                  <a:ext cx="576360" cy="328680"/>
                </a:xfrm>
                <a:prstGeom prst="rightArrow">
                  <a:avLst>
                    <a:gd name="adj1" fmla="val 50000"/>
                    <a:gd name="adj2" fmla="val 73974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Text Box 16"/>
              <p:cNvSpPr/>
              <p:nvPr/>
            </p:nvSpPr>
            <p:spPr>
              <a:xfrm>
                <a:off x="4025880" y="2525760"/>
                <a:ext cx="4356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项目宗旨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促进创新创业人才的培养；推动高校科研成果转化；创新高校人才培养模式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17"/>
              <p:cNvSpPr/>
              <p:nvPr/>
            </p:nvSpPr>
            <p:spPr>
              <a:xfrm>
                <a:off x="4003560" y="1344600"/>
                <a:ext cx="435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主办单位：</a:t>
                </a:r>
                <a:r>
                  <a:rPr b="0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上海市大学生科技创业基金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指导单位：</a:t>
                </a:r>
                <a:r>
                  <a:rPr b="0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上   海   市   教  育  委  员  会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AutoShape 13"/>
            <p:cNvSpPr/>
            <p:nvPr/>
          </p:nvSpPr>
          <p:spPr>
            <a:xfrm>
              <a:off x="3286080" y="3714840"/>
              <a:ext cx="5286240" cy="1214280"/>
            </a:xfrm>
            <a:prstGeom prst="roundRect">
              <a:avLst>
                <a:gd name="adj" fmla="val 10889"/>
              </a:avLst>
            </a:prstGeom>
            <a:solidFill>
              <a:srgbClr val="cec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4"/>
            <p:cNvSpPr/>
            <p:nvPr/>
          </p:nvSpPr>
          <p:spPr>
            <a:xfrm>
              <a:off x="3286080" y="4071960"/>
              <a:ext cx="576000" cy="325440"/>
            </a:xfrm>
            <a:prstGeom prst="rightArrow">
              <a:avLst>
                <a:gd name="adj1" fmla="val 50000"/>
                <a:gd name="adj2" fmla="val 699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5"/>
            <p:cNvSpPr/>
            <p:nvPr/>
          </p:nvSpPr>
          <p:spPr>
            <a:xfrm>
              <a:off x="4000320" y="3714840"/>
              <a:ext cx="45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成果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建立</a:t>
              </a:r>
              <a:r>
                <a:rPr b="1" lang="en-US" sz="2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2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4</a:t>
              </a: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所高校研究生院直通渠道，两年共</a:t>
              </a:r>
              <a:r>
                <a:rPr b="1" lang="zh-CN" sz="2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225</a:t>
              </a: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项目立项培养。孵化</a:t>
              </a:r>
              <a:r>
                <a:rPr b="1" lang="zh-CN" sz="2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80</a:t>
              </a: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项目成功成立公司，</a:t>
              </a:r>
              <a:r>
                <a:rPr b="1" lang="zh-CN" sz="2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48</a:t>
              </a: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项目获得天使基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60" y="410760"/>
            <a:ext cx="4962600" cy="3366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培训模块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77" name="内容占位符 5" descr=""/>
          <p:cNvPicPr/>
          <p:nvPr/>
        </p:nvPicPr>
        <p:blipFill>
          <a:blip r:embed="rId1"/>
          <a:stretch/>
        </p:blipFill>
        <p:spPr>
          <a:xfrm>
            <a:off x="122400" y="1981080"/>
            <a:ext cx="8240400" cy="3303720"/>
          </a:xfrm>
          <a:prstGeom prst="rect">
            <a:avLst/>
          </a:prstGeom>
          <a:ln w="0">
            <a:noFill/>
          </a:ln>
        </p:spPr>
      </p:pic>
      <p:grpSp>
        <p:nvGrpSpPr>
          <p:cNvPr id="278" name="组合 33"/>
          <p:cNvGrpSpPr/>
          <p:nvPr/>
        </p:nvGrpSpPr>
        <p:grpSpPr>
          <a:xfrm>
            <a:off x="4022640" y="1071720"/>
            <a:ext cx="2121120" cy="772920"/>
            <a:chOff x="4022640" y="1071720"/>
            <a:chExt cx="2121120" cy="772920"/>
          </a:xfrm>
        </p:grpSpPr>
        <p:sp>
          <p:nvSpPr>
            <p:cNvPr id="279" name="圆角矩形 34"/>
            <p:cNvSpPr/>
            <p:nvPr/>
          </p:nvSpPr>
          <p:spPr>
            <a:xfrm>
              <a:off x="4022640" y="1071720"/>
              <a:ext cx="2121120" cy="772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圆角矩形 4"/>
            <p:cNvSpPr/>
            <p:nvPr/>
          </p:nvSpPr>
          <p:spPr>
            <a:xfrm>
              <a:off x="4060440" y="1109520"/>
              <a:ext cx="204516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立公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直接连接符 37"/>
          <p:cNvSpPr/>
          <p:nvPr/>
        </p:nvSpPr>
        <p:spPr>
          <a:xfrm>
            <a:off x="1714680" y="1928880"/>
            <a:ext cx="514332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8"/>
          <p:cNvSpPr/>
          <p:nvPr/>
        </p:nvSpPr>
        <p:spPr>
          <a:xfrm>
            <a:off x="1239840" y="2357280"/>
            <a:ext cx="546120" cy="26434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模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"/>
          <p:cNvSpPr/>
          <p:nvPr/>
        </p:nvSpPr>
        <p:spPr>
          <a:xfrm rot="21175800">
            <a:off x="1190160" y="1068120"/>
            <a:ext cx="881280" cy="1204920"/>
          </a:xfrm>
          <a:prstGeom prst="pie">
            <a:avLst/>
          </a:prstGeom>
          <a:solidFill>
            <a:srgbClr val="92d05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1" descr="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"/>
          <p:cNvSpPr/>
          <p:nvPr/>
        </p:nvSpPr>
        <p:spPr>
          <a:xfrm>
            <a:off x="108000" y="396720"/>
            <a:ext cx="708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微软雅黑"/>
                <a:ea typeface="微软雅黑"/>
              </a:rPr>
              <a:t>　培训模块（自我认知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3"/>
          <p:cNvGrpSpPr/>
          <p:nvPr/>
        </p:nvGrpSpPr>
        <p:grpSpPr>
          <a:xfrm>
            <a:off x="142920" y="1251000"/>
            <a:ext cx="8643960" cy="3765600"/>
            <a:chOff x="142920" y="1251000"/>
            <a:chExt cx="8643960" cy="3765600"/>
          </a:xfrm>
        </p:grpSpPr>
        <p:sp>
          <p:nvSpPr>
            <p:cNvPr id="287" name="AutoShape 3"/>
            <p:cNvSpPr/>
            <p:nvPr/>
          </p:nvSpPr>
          <p:spPr>
            <a:xfrm>
              <a:off x="142920" y="1251000"/>
              <a:ext cx="2963880" cy="3765600"/>
            </a:xfrm>
            <a:prstGeom prst="rightArrow">
              <a:avLst>
                <a:gd name="adj1" fmla="val 62787"/>
                <a:gd name="adj2" fmla="val 41259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e6e6e6"/>
                </a:gs>
              </a:gsLst>
              <a:lin ang="10800000"/>
            </a:gradFill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4"/>
            <p:cNvSpPr/>
            <p:nvPr/>
          </p:nvSpPr>
          <p:spPr>
            <a:xfrm>
              <a:off x="225360" y="2143080"/>
              <a:ext cx="2387520" cy="15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培训目标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．形成对自己及团队的科学认识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．挖掘主申请人适合创业的个人素质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5"/>
            <p:cNvSpPr/>
            <p:nvPr/>
          </p:nvSpPr>
          <p:spPr>
            <a:xfrm>
              <a:off x="3271680" y="1315800"/>
              <a:ext cx="5515200" cy="3570480"/>
            </a:xfrm>
            <a:prstGeom prst="roundRect">
              <a:avLst>
                <a:gd name="adj" fmla="val 3481"/>
              </a:avLst>
            </a:prstGeom>
            <a:noFill/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8"/>
            <p:cNvGrpSpPr/>
            <p:nvPr/>
          </p:nvGrpSpPr>
          <p:grpSpPr>
            <a:xfrm>
              <a:off x="3353400" y="1445760"/>
              <a:ext cx="5319720" cy="1046880"/>
              <a:chOff x="3353400" y="1445760"/>
              <a:chExt cx="5319720" cy="1046880"/>
            </a:xfrm>
          </p:grpSpPr>
          <p:sp>
            <p:nvSpPr>
              <p:cNvPr id="291" name="AutoShape 7"/>
              <p:cNvSpPr/>
              <p:nvPr/>
            </p:nvSpPr>
            <p:spPr>
              <a:xfrm>
                <a:off x="3398040" y="1445760"/>
                <a:ext cx="5275080" cy="1046880"/>
              </a:xfrm>
              <a:prstGeom prst="roundRect">
                <a:avLst>
                  <a:gd name="adj" fmla="val 10889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8"/>
              <p:cNvSpPr/>
              <p:nvPr/>
            </p:nvSpPr>
            <p:spPr>
              <a:xfrm>
                <a:off x="3353400" y="1837080"/>
                <a:ext cx="575280" cy="327600"/>
              </a:xfrm>
              <a:prstGeom prst="rightArrow">
                <a:avLst>
                  <a:gd name="adj1" fmla="val 50000"/>
                  <a:gd name="adj2" fmla="val 7346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11"/>
            <p:cNvGrpSpPr/>
            <p:nvPr/>
          </p:nvGrpSpPr>
          <p:grpSpPr>
            <a:xfrm>
              <a:off x="3353400" y="2606400"/>
              <a:ext cx="5319720" cy="1046880"/>
              <a:chOff x="3353400" y="2606400"/>
              <a:chExt cx="5319720" cy="1046880"/>
            </a:xfrm>
          </p:grpSpPr>
          <p:sp>
            <p:nvSpPr>
              <p:cNvPr id="294" name="AutoShape 10"/>
              <p:cNvSpPr/>
              <p:nvPr/>
            </p:nvSpPr>
            <p:spPr>
              <a:xfrm>
                <a:off x="3398040" y="2606400"/>
                <a:ext cx="5275080" cy="1046880"/>
              </a:xfrm>
              <a:prstGeom prst="roundRect">
                <a:avLst>
                  <a:gd name="adj" fmla="val 10889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AutoShape 11"/>
              <p:cNvSpPr/>
              <p:nvPr/>
            </p:nvSpPr>
            <p:spPr>
              <a:xfrm>
                <a:off x="3353400" y="3006000"/>
                <a:ext cx="575280" cy="330480"/>
              </a:xfrm>
              <a:prstGeom prst="rightArrow">
                <a:avLst>
                  <a:gd name="adj1" fmla="val 50000"/>
                  <a:gd name="adj2" fmla="val 73433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14"/>
            <p:cNvGrpSpPr/>
            <p:nvPr/>
          </p:nvGrpSpPr>
          <p:grpSpPr>
            <a:xfrm>
              <a:off x="3353400" y="3718080"/>
              <a:ext cx="5319720" cy="1046880"/>
              <a:chOff x="3353400" y="3718080"/>
              <a:chExt cx="5319720" cy="1046880"/>
            </a:xfrm>
          </p:grpSpPr>
          <p:sp>
            <p:nvSpPr>
              <p:cNvPr id="297" name="AutoShape 13"/>
              <p:cNvSpPr/>
              <p:nvPr/>
            </p:nvSpPr>
            <p:spPr>
              <a:xfrm>
                <a:off x="3398040" y="3718080"/>
                <a:ext cx="5275080" cy="1046880"/>
              </a:xfrm>
              <a:prstGeom prst="roundRect">
                <a:avLst>
                  <a:gd name="adj" fmla="val 10889"/>
                </a:avLst>
              </a:prstGeom>
              <a:solidFill>
                <a:srgbClr val="a3a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AutoShape 14"/>
              <p:cNvSpPr/>
              <p:nvPr/>
            </p:nvSpPr>
            <p:spPr>
              <a:xfrm>
                <a:off x="3353400" y="4106520"/>
                <a:ext cx="575280" cy="321480"/>
              </a:xfrm>
              <a:prstGeom prst="rightArrow">
                <a:avLst>
                  <a:gd name="adj1" fmla="val 50000"/>
                  <a:gd name="adj2" fmla="val 7424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 Box 15"/>
            <p:cNvSpPr/>
            <p:nvPr/>
          </p:nvSpPr>
          <p:spPr>
            <a:xfrm>
              <a:off x="4071960" y="1500120"/>
              <a:ext cx="43560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创业力评鉴中心测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进行个人创业素质及能力测评，有助于更加了解自己的优缺点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7"/>
            <p:cNvSpPr/>
            <p:nvPr/>
          </p:nvSpPr>
          <p:spPr>
            <a:xfrm>
              <a:off x="4071960" y="2638440"/>
              <a:ext cx="4581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创业训练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为期五天的创业训练营，包含创新意识的培养，创业案例的学习，商业逻辑的梳理，商业模式的建立，创业模型的分析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 Box 17"/>
          <p:cNvSpPr/>
          <p:nvPr/>
        </p:nvSpPr>
        <p:spPr>
          <a:xfrm>
            <a:off x="4071960" y="3714840"/>
            <a:ext cx="458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沙盘模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由实训基地提供虚拟办公室，学员可带领团队在实训基地模拟创业，及申请使用基地各个试制平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矩形 18"/>
          <p:cNvSpPr/>
          <p:nvPr/>
        </p:nvSpPr>
        <p:spPr>
          <a:xfrm>
            <a:off x="1924200" y="2516760"/>
            <a:ext cx="701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</a:t>
            </a: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</a:t>
            </a: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  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主讲人（待定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帮助学员了解：</a:t>
            </a: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）什么是商业模式；</a:t>
            </a: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）商业模式对技术转移的价值及应用；</a:t>
            </a: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）技术转移的商业价值；</a:t>
            </a: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）如何思考与设计项目的可转化模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2"/>
          <p:cNvSpPr/>
          <p:nvPr/>
        </p:nvSpPr>
        <p:spPr>
          <a:xfrm>
            <a:off x="1924200" y="1114920"/>
            <a:ext cx="702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</a:t>
            </a: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</a:t>
            </a: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  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主讲人： （待定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通过室内拓展，帮助学员迅速破冰，在认识自己认识他人的同时，提高学员的团队协作能力以及集体决策能力，增强学员间的黏性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433440" y="355680"/>
            <a:ext cx="7130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自我认知产品：创业训练营技术精英班</a:t>
            </a:r>
            <a:r>
              <a:rPr b="0" lang="en-US" sz="2200" spc="-1" strike="noStrike">
                <a:solidFill>
                  <a:srgbClr val="404040"/>
                </a:solidFill>
                <a:latin typeface="微软雅黑"/>
                <a:ea typeface="微软雅黑"/>
              </a:rPr>
              <a:t>(</a:t>
            </a:r>
            <a:r>
              <a:rPr b="0" lang="zh-CN" sz="2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暑期</a:t>
            </a:r>
            <a:r>
              <a:rPr b="0" lang="en-US" sz="2200" spc="-1" strike="noStrike">
                <a:solidFill>
                  <a:srgbClr val="404040"/>
                </a:solidFill>
                <a:latin typeface="微软雅黑"/>
                <a:ea typeface="微软雅黑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826920" y="1029960"/>
            <a:ext cx="982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2d050"/>
                </a:solidFill>
                <a:latin typeface="微软雅黑"/>
                <a:ea typeface="微软雅黑"/>
              </a:rPr>
              <a:t>个人认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2d050"/>
                </a:solidFill>
                <a:latin typeface="微软雅黑"/>
                <a:ea typeface="微软雅黑"/>
              </a:rPr>
              <a:t>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2d050"/>
                </a:solidFill>
                <a:latin typeface="微软雅黑"/>
                <a:ea typeface="微软雅黑"/>
              </a:rPr>
              <a:t>团队建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4"/>
          <p:cNvSpPr/>
          <p:nvPr/>
        </p:nvSpPr>
        <p:spPr>
          <a:xfrm>
            <a:off x="826920" y="1728360"/>
            <a:ext cx="982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2d050"/>
                </a:solidFill>
                <a:latin typeface="微软雅黑"/>
                <a:ea typeface="微软雅黑"/>
              </a:rPr>
              <a:t>技术创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2d050"/>
                </a:solidFill>
                <a:latin typeface="微软雅黑"/>
                <a:ea typeface="微软雅黑"/>
              </a:rPr>
              <a:t>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2d050"/>
                </a:solidFill>
                <a:latin typeface="微软雅黑"/>
                <a:ea typeface="微软雅黑"/>
              </a:rPr>
              <a:t>技术转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4"/>
          <p:cNvSpPr/>
          <p:nvPr/>
        </p:nvSpPr>
        <p:spPr>
          <a:xfrm>
            <a:off x="826920" y="2428560"/>
            <a:ext cx="982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2d050"/>
                </a:solidFill>
                <a:latin typeface="微软雅黑"/>
                <a:ea typeface="微软雅黑"/>
              </a:rPr>
              <a:t>创业价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2d050"/>
                </a:solidFill>
                <a:latin typeface="微软雅黑"/>
                <a:ea typeface="微软雅黑"/>
              </a:rPr>
              <a:t>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2d050"/>
                </a:solidFill>
                <a:latin typeface="微软雅黑"/>
                <a:ea typeface="微软雅黑"/>
              </a:rPr>
              <a:t>技术转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4"/>
          <p:cNvSpPr/>
          <p:nvPr/>
        </p:nvSpPr>
        <p:spPr>
          <a:xfrm>
            <a:off x="826920" y="3128760"/>
            <a:ext cx="982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2d050"/>
                </a:solidFill>
                <a:latin typeface="微软雅黑"/>
                <a:ea typeface="微软雅黑"/>
              </a:rPr>
              <a:t>创业认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2d050"/>
                </a:solidFill>
                <a:latin typeface="微软雅黑"/>
                <a:ea typeface="微软雅黑"/>
              </a:rPr>
              <a:t>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2d050"/>
                </a:solidFill>
                <a:latin typeface="微软雅黑"/>
                <a:ea typeface="微软雅黑"/>
              </a:rPr>
              <a:t>创业思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8"/>
          <p:cNvSpPr/>
          <p:nvPr/>
        </p:nvSpPr>
        <p:spPr>
          <a:xfrm>
            <a:off x="1924200" y="3220200"/>
            <a:ext cx="701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</a:t>
            </a: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</a:t>
            </a: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  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主讲人： （待定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帮助学员了解：</a:t>
            </a: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）创业认知和定位，创业思考模型，创业盈利模型；</a:t>
            </a: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）帮助创业者全方位审视并印证技术项目的创业可行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2"/>
          <p:cNvSpPr/>
          <p:nvPr/>
        </p:nvSpPr>
        <p:spPr>
          <a:xfrm>
            <a:off x="1924200" y="1816920"/>
            <a:ext cx="694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</a:t>
            </a: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</a:t>
            </a: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  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主讲人： （待定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帮助学员：</a:t>
            </a: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）了解创新技术转移的成功案例及其分析；</a:t>
            </a: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）了解创新技术转移的特点及主要方法、路径及需要具备的条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4"/>
          <p:cNvSpPr/>
          <p:nvPr/>
        </p:nvSpPr>
        <p:spPr>
          <a:xfrm>
            <a:off x="833400" y="3841560"/>
            <a:ext cx="982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2d050"/>
                </a:solidFill>
                <a:latin typeface="微软雅黑"/>
                <a:ea typeface="微软雅黑"/>
              </a:rPr>
              <a:t>创新流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2d050"/>
                </a:solidFill>
                <a:latin typeface="微软雅黑"/>
                <a:ea typeface="微软雅黑"/>
              </a:rPr>
              <a:t>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2d050"/>
                </a:solidFill>
                <a:latin typeface="微软雅黑"/>
                <a:ea typeface="微软雅黑"/>
              </a:rPr>
              <a:t>研发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8"/>
          <p:cNvSpPr/>
          <p:nvPr/>
        </p:nvSpPr>
        <p:spPr>
          <a:xfrm>
            <a:off x="1930320" y="3933000"/>
            <a:ext cx="7008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</a:t>
            </a: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</a:t>
            </a: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  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主讲人：（待定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帮助学员了解：</a:t>
            </a: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）了解研发创新战略管理、创新流程管理、创新团队管理；</a:t>
            </a: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）初步建立技术型企业研发管理的概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4"/>
          <p:cNvSpPr/>
          <p:nvPr/>
        </p:nvSpPr>
        <p:spPr>
          <a:xfrm>
            <a:off x="127080" y="1221480"/>
            <a:ext cx="98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4"/>
          <p:cNvSpPr/>
          <p:nvPr/>
        </p:nvSpPr>
        <p:spPr>
          <a:xfrm>
            <a:off x="127080" y="1920600"/>
            <a:ext cx="98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4"/>
          <p:cNvSpPr/>
          <p:nvPr/>
        </p:nvSpPr>
        <p:spPr>
          <a:xfrm>
            <a:off x="127080" y="2527920"/>
            <a:ext cx="98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4"/>
          <p:cNvSpPr/>
          <p:nvPr/>
        </p:nvSpPr>
        <p:spPr>
          <a:xfrm>
            <a:off x="127080" y="3319920"/>
            <a:ext cx="98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4"/>
          <p:cNvSpPr/>
          <p:nvPr/>
        </p:nvSpPr>
        <p:spPr>
          <a:xfrm>
            <a:off x="133200" y="4032720"/>
            <a:ext cx="98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4"/>
          <p:cNvSpPr/>
          <p:nvPr/>
        </p:nvSpPr>
        <p:spPr>
          <a:xfrm>
            <a:off x="831960" y="4546440"/>
            <a:ext cx="982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2d050"/>
                </a:solidFill>
                <a:latin typeface="微软雅黑"/>
                <a:ea typeface="微软雅黑"/>
              </a:rPr>
              <a:t>创业计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2d050"/>
                </a:solidFill>
                <a:latin typeface="微软雅黑"/>
                <a:ea typeface="微软雅黑"/>
              </a:rPr>
              <a:t>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2d050"/>
                </a:solidFill>
                <a:latin typeface="微软雅黑"/>
                <a:ea typeface="微软雅黑"/>
              </a:rPr>
              <a:t>基金申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33"/>
          <p:cNvSpPr/>
          <p:nvPr/>
        </p:nvSpPr>
        <p:spPr>
          <a:xfrm>
            <a:off x="1928880" y="4637880"/>
            <a:ext cx="7008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</a:t>
            </a: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</a:t>
            </a: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  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主讲人： （待定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帮助学员了解：</a:t>
            </a: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）商业计划与商业计划书；</a:t>
            </a: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）商业计划对技术转移的影响与思考；</a:t>
            </a: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）投资人如何看技术转移与商业计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4"/>
          <p:cNvSpPr/>
          <p:nvPr/>
        </p:nvSpPr>
        <p:spPr>
          <a:xfrm>
            <a:off x="131760" y="4736880"/>
            <a:ext cx="98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2"/>
          <p:cNvSpPr/>
          <p:nvPr/>
        </p:nvSpPr>
        <p:spPr>
          <a:xfrm>
            <a:off x="423720" y="1623960"/>
            <a:ext cx="845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38"/>
          <p:cNvSpPr/>
          <p:nvPr/>
        </p:nvSpPr>
        <p:spPr>
          <a:xfrm>
            <a:off x="423720" y="2313000"/>
            <a:ext cx="845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40"/>
          <p:cNvSpPr/>
          <p:nvPr/>
        </p:nvSpPr>
        <p:spPr>
          <a:xfrm>
            <a:off x="423720" y="3021120"/>
            <a:ext cx="845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41"/>
          <p:cNvSpPr/>
          <p:nvPr/>
        </p:nvSpPr>
        <p:spPr>
          <a:xfrm>
            <a:off x="423720" y="3720960"/>
            <a:ext cx="845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42"/>
          <p:cNvSpPr/>
          <p:nvPr/>
        </p:nvSpPr>
        <p:spPr>
          <a:xfrm>
            <a:off x="423720" y="4430880"/>
            <a:ext cx="845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直接连接符 43"/>
          <p:cNvSpPr/>
          <p:nvPr/>
        </p:nvSpPr>
        <p:spPr>
          <a:xfrm>
            <a:off x="423720" y="5130720"/>
            <a:ext cx="845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"/>
          <p:cNvPicPr/>
          <p:nvPr/>
        </p:nvPicPr>
        <p:blipFill>
          <a:blip r:embed="rId1"/>
          <a:srcRect l="0" t="0" r="10303" b="0"/>
          <a:stretch/>
        </p:blipFill>
        <p:spPr>
          <a:xfrm>
            <a:off x="-279360" y="0"/>
            <a:ext cx="9459720" cy="5729400"/>
          </a:xfrm>
          <a:prstGeom prst="rect">
            <a:avLst/>
          </a:prstGeom>
          <a:ln w="0">
            <a:noFill/>
          </a:ln>
        </p:spPr>
      </p:pic>
      <p:sp>
        <p:nvSpPr>
          <p:cNvPr id="224" name="圆角矩形 5"/>
          <p:cNvSpPr/>
          <p:nvPr/>
        </p:nvSpPr>
        <p:spPr>
          <a:xfrm>
            <a:off x="217440" y="650880"/>
            <a:ext cx="4498920" cy="1187280"/>
          </a:xfrm>
          <a:prstGeom prst="roundRect">
            <a:avLst>
              <a:gd name="adj" fmla="val 16667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成立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6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，上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1" descr="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108000" y="396720"/>
            <a:ext cx="708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微软雅黑"/>
                <a:ea typeface="微软雅黑"/>
              </a:rPr>
              <a:t>　培训模块（商业启蒙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3"/>
          <p:cNvGrpSpPr/>
          <p:nvPr/>
        </p:nvGrpSpPr>
        <p:grpSpPr>
          <a:xfrm>
            <a:off x="142920" y="1251000"/>
            <a:ext cx="8643960" cy="3765600"/>
            <a:chOff x="142920" y="1251000"/>
            <a:chExt cx="8643960" cy="3765600"/>
          </a:xfrm>
        </p:grpSpPr>
        <p:sp>
          <p:nvSpPr>
            <p:cNvPr id="330" name="AutoShape 3"/>
            <p:cNvSpPr/>
            <p:nvPr/>
          </p:nvSpPr>
          <p:spPr>
            <a:xfrm>
              <a:off x="142920" y="1251000"/>
              <a:ext cx="2963880" cy="3765600"/>
            </a:xfrm>
            <a:prstGeom prst="rightArrow">
              <a:avLst>
                <a:gd name="adj1" fmla="val 62787"/>
                <a:gd name="adj2" fmla="val 41259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e6e6e6"/>
                </a:gs>
              </a:gsLst>
              <a:lin ang="10800000"/>
            </a:gradFill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4"/>
            <p:cNvSpPr/>
            <p:nvPr/>
          </p:nvSpPr>
          <p:spPr>
            <a:xfrm>
              <a:off x="225360" y="2143080"/>
              <a:ext cx="238752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培训目标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．开阔眼界，拓展人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．撰写一份完整的商业计划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5"/>
            <p:cNvSpPr/>
            <p:nvPr/>
          </p:nvSpPr>
          <p:spPr>
            <a:xfrm>
              <a:off x="3271680" y="1315800"/>
              <a:ext cx="5515200" cy="3570480"/>
            </a:xfrm>
            <a:prstGeom prst="roundRect">
              <a:avLst>
                <a:gd name="adj" fmla="val 3481"/>
              </a:avLst>
            </a:prstGeom>
            <a:noFill/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8"/>
            <p:cNvGrpSpPr/>
            <p:nvPr/>
          </p:nvGrpSpPr>
          <p:grpSpPr>
            <a:xfrm>
              <a:off x="3353400" y="1445760"/>
              <a:ext cx="5319720" cy="1046880"/>
              <a:chOff x="3353400" y="1445760"/>
              <a:chExt cx="5319720" cy="1046880"/>
            </a:xfrm>
          </p:grpSpPr>
          <p:sp>
            <p:nvSpPr>
              <p:cNvPr id="334" name="AutoShape 7"/>
              <p:cNvSpPr/>
              <p:nvPr/>
            </p:nvSpPr>
            <p:spPr>
              <a:xfrm>
                <a:off x="3398040" y="1445760"/>
                <a:ext cx="5275080" cy="1046880"/>
              </a:xfrm>
              <a:prstGeom prst="roundRect">
                <a:avLst>
                  <a:gd name="adj" fmla="val 10889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AutoShape 8"/>
              <p:cNvSpPr/>
              <p:nvPr/>
            </p:nvSpPr>
            <p:spPr>
              <a:xfrm>
                <a:off x="3353400" y="1837080"/>
                <a:ext cx="575280" cy="327600"/>
              </a:xfrm>
              <a:prstGeom prst="rightArrow">
                <a:avLst>
                  <a:gd name="adj1" fmla="val 50000"/>
                  <a:gd name="adj2" fmla="val 7346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11"/>
            <p:cNvGrpSpPr/>
            <p:nvPr/>
          </p:nvGrpSpPr>
          <p:grpSpPr>
            <a:xfrm>
              <a:off x="3353400" y="2606400"/>
              <a:ext cx="5319720" cy="1046880"/>
              <a:chOff x="3353400" y="2606400"/>
              <a:chExt cx="5319720" cy="1046880"/>
            </a:xfrm>
          </p:grpSpPr>
          <p:sp>
            <p:nvSpPr>
              <p:cNvPr id="337" name="AutoShape 10"/>
              <p:cNvSpPr/>
              <p:nvPr/>
            </p:nvSpPr>
            <p:spPr>
              <a:xfrm>
                <a:off x="3398040" y="2606400"/>
                <a:ext cx="5275080" cy="1046880"/>
              </a:xfrm>
              <a:prstGeom prst="roundRect">
                <a:avLst>
                  <a:gd name="adj" fmla="val 10889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utoShape 11"/>
              <p:cNvSpPr/>
              <p:nvPr/>
            </p:nvSpPr>
            <p:spPr>
              <a:xfrm>
                <a:off x="3353400" y="3006000"/>
                <a:ext cx="575280" cy="330480"/>
              </a:xfrm>
              <a:prstGeom prst="rightArrow">
                <a:avLst>
                  <a:gd name="adj1" fmla="val 50000"/>
                  <a:gd name="adj2" fmla="val 73433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14"/>
            <p:cNvGrpSpPr/>
            <p:nvPr/>
          </p:nvGrpSpPr>
          <p:grpSpPr>
            <a:xfrm>
              <a:off x="3353400" y="3718080"/>
              <a:ext cx="5319720" cy="1046880"/>
              <a:chOff x="3353400" y="3718080"/>
              <a:chExt cx="5319720" cy="1046880"/>
            </a:xfrm>
          </p:grpSpPr>
          <p:sp>
            <p:nvSpPr>
              <p:cNvPr id="340" name="AutoShape 13"/>
              <p:cNvSpPr/>
              <p:nvPr/>
            </p:nvSpPr>
            <p:spPr>
              <a:xfrm>
                <a:off x="3398040" y="3718080"/>
                <a:ext cx="5275080" cy="1046880"/>
              </a:xfrm>
              <a:prstGeom prst="roundRect">
                <a:avLst>
                  <a:gd name="adj" fmla="val 10889"/>
                </a:avLst>
              </a:prstGeom>
              <a:solidFill>
                <a:srgbClr val="a3a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utoShape 14"/>
              <p:cNvSpPr/>
              <p:nvPr/>
            </p:nvSpPr>
            <p:spPr>
              <a:xfrm>
                <a:off x="3353400" y="4106520"/>
                <a:ext cx="575280" cy="321480"/>
              </a:xfrm>
              <a:prstGeom prst="rightArrow">
                <a:avLst>
                  <a:gd name="adj1" fmla="val 50000"/>
                  <a:gd name="adj2" fmla="val 7424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Text Box 17"/>
          <p:cNvSpPr/>
          <p:nvPr/>
        </p:nvSpPr>
        <p:spPr>
          <a:xfrm>
            <a:off x="4000680" y="1500120"/>
            <a:ext cx="458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全球创业周中国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参加观摩创业周开幕式，创业服务新业态论坛，新创发布会，区县创业周等活动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4000680" y="2643120"/>
            <a:ext cx="458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企业参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参观科技型创业企业，实地考察创业企业运营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泰坦化学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4000680" y="3857760"/>
            <a:ext cx="458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新创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创业基金会辅导老师及各高校科技园或分会老师逐一面谈，辅导项目撰写商业计划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1" descr="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4"/>
          <p:cNvSpPr/>
          <p:nvPr/>
        </p:nvSpPr>
        <p:spPr>
          <a:xfrm>
            <a:off x="108000" y="396720"/>
            <a:ext cx="708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微软雅黑"/>
                <a:ea typeface="微软雅黑"/>
              </a:rPr>
              <a:t>　培训模块（创业实践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3"/>
          <p:cNvGrpSpPr/>
          <p:nvPr/>
        </p:nvGrpSpPr>
        <p:grpSpPr>
          <a:xfrm>
            <a:off x="142920" y="1251000"/>
            <a:ext cx="8643960" cy="3765600"/>
            <a:chOff x="142920" y="1251000"/>
            <a:chExt cx="8643960" cy="3765600"/>
          </a:xfrm>
        </p:grpSpPr>
        <p:sp>
          <p:nvSpPr>
            <p:cNvPr id="348" name="AutoShape 3"/>
            <p:cNvSpPr/>
            <p:nvPr/>
          </p:nvSpPr>
          <p:spPr>
            <a:xfrm>
              <a:off x="142920" y="1251000"/>
              <a:ext cx="2963880" cy="3765600"/>
            </a:xfrm>
            <a:prstGeom prst="rightArrow">
              <a:avLst>
                <a:gd name="adj1" fmla="val 62787"/>
                <a:gd name="adj2" fmla="val 41259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e6e6e6"/>
                </a:gs>
              </a:gsLst>
              <a:lin ang="10800000"/>
            </a:gradFill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4"/>
            <p:cNvSpPr/>
            <p:nvPr/>
          </p:nvSpPr>
          <p:spPr>
            <a:xfrm>
              <a:off x="225360" y="2143080"/>
              <a:ext cx="2387520" cy="18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培训目标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．筛选出真实创业的学员参加该环节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．给予更多与企业、投资人接触的机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5"/>
            <p:cNvSpPr/>
            <p:nvPr/>
          </p:nvSpPr>
          <p:spPr>
            <a:xfrm>
              <a:off x="3271680" y="1315800"/>
              <a:ext cx="5515200" cy="3570480"/>
            </a:xfrm>
            <a:prstGeom prst="roundRect">
              <a:avLst>
                <a:gd name="adj" fmla="val 3481"/>
              </a:avLst>
            </a:prstGeom>
            <a:noFill/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8"/>
            <p:cNvGrpSpPr/>
            <p:nvPr/>
          </p:nvGrpSpPr>
          <p:grpSpPr>
            <a:xfrm>
              <a:off x="3353400" y="1445760"/>
              <a:ext cx="5319720" cy="1046880"/>
              <a:chOff x="3353400" y="1445760"/>
              <a:chExt cx="5319720" cy="1046880"/>
            </a:xfrm>
          </p:grpSpPr>
          <p:sp>
            <p:nvSpPr>
              <p:cNvPr id="352" name="AutoShape 7"/>
              <p:cNvSpPr/>
              <p:nvPr/>
            </p:nvSpPr>
            <p:spPr>
              <a:xfrm>
                <a:off x="3398040" y="1445760"/>
                <a:ext cx="5275080" cy="1046880"/>
              </a:xfrm>
              <a:prstGeom prst="roundRect">
                <a:avLst>
                  <a:gd name="adj" fmla="val 10889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8"/>
              <p:cNvSpPr/>
              <p:nvPr/>
            </p:nvSpPr>
            <p:spPr>
              <a:xfrm>
                <a:off x="3353400" y="1837080"/>
                <a:ext cx="575280" cy="327600"/>
              </a:xfrm>
              <a:prstGeom prst="rightArrow">
                <a:avLst>
                  <a:gd name="adj1" fmla="val 50000"/>
                  <a:gd name="adj2" fmla="val 7346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1"/>
            <p:cNvGrpSpPr/>
            <p:nvPr/>
          </p:nvGrpSpPr>
          <p:grpSpPr>
            <a:xfrm>
              <a:off x="3353400" y="2606400"/>
              <a:ext cx="5319720" cy="1046880"/>
              <a:chOff x="3353400" y="2606400"/>
              <a:chExt cx="5319720" cy="1046880"/>
            </a:xfrm>
          </p:grpSpPr>
          <p:sp>
            <p:nvSpPr>
              <p:cNvPr id="355" name="AutoShape 10"/>
              <p:cNvSpPr/>
              <p:nvPr/>
            </p:nvSpPr>
            <p:spPr>
              <a:xfrm>
                <a:off x="3398040" y="2606400"/>
                <a:ext cx="5275080" cy="1046880"/>
              </a:xfrm>
              <a:prstGeom prst="roundRect">
                <a:avLst>
                  <a:gd name="adj" fmla="val 10889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AutoShape 11"/>
              <p:cNvSpPr/>
              <p:nvPr/>
            </p:nvSpPr>
            <p:spPr>
              <a:xfrm>
                <a:off x="3353400" y="3006000"/>
                <a:ext cx="575280" cy="330480"/>
              </a:xfrm>
              <a:prstGeom prst="rightArrow">
                <a:avLst>
                  <a:gd name="adj1" fmla="val 50000"/>
                  <a:gd name="adj2" fmla="val 73433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14"/>
            <p:cNvGrpSpPr/>
            <p:nvPr/>
          </p:nvGrpSpPr>
          <p:grpSpPr>
            <a:xfrm>
              <a:off x="3353400" y="3718080"/>
              <a:ext cx="5319720" cy="1046880"/>
              <a:chOff x="3353400" y="3718080"/>
              <a:chExt cx="5319720" cy="1046880"/>
            </a:xfrm>
          </p:grpSpPr>
          <p:sp>
            <p:nvSpPr>
              <p:cNvPr id="358" name="AutoShape 13"/>
              <p:cNvSpPr/>
              <p:nvPr/>
            </p:nvSpPr>
            <p:spPr>
              <a:xfrm>
                <a:off x="3398040" y="3718080"/>
                <a:ext cx="5275080" cy="1046880"/>
              </a:xfrm>
              <a:prstGeom prst="roundRect">
                <a:avLst>
                  <a:gd name="adj" fmla="val 10889"/>
                </a:avLst>
              </a:prstGeom>
              <a:solidFill>
                <a:srgbClr val="a3a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AutoShape 14"/>
              <p:cNvSpPr/>
              <p:nvPr/>
            </p:nvSpPr>
            <p:spPr>
              <a:xfrm>
                <a:off x="3353400" y="4106520"/>
                <a:ext cx="575280" cy="321480"/>
              </a:xfrm>
              <a:prstGeom prst="rightArrow">
                <a:avLst>
                  <a:gd name="adj1" fmla="val 50000"/>
                  <a:gd name="adj2" fmla="val 7424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Text Box 15"/>
            <p:cNvSpPr/>
            <p:nvPr/>
          </p:nvSpPr>
          <p:spPr>
            <a:xfrm>
              <a:off x="4071960" y="1428480"/>
              <a:ext cx="4572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CEO</a:t>
              </a:r>
              <a:r>
                <a:rPr b="1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三日助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创业基金会筛选出</a:t>
              </a:r>
              <a:r>
                <a:rPr b="0" lang="en-US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</a:t>
              </a: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家科技创业企业，从学员中再筛选出</a:t>
              </a:r>
              <a:r>
                <a:rPr b="0" lang="en-US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</a:t>
              </a: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名通过行业匹配可以成为创业企业创始人</a:t>
              </a:r>
              <a:r>
                <a:rPr b="0" lang="en-US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CEO</a:t>
              </a: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三日助理，深入创业企业学习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7"/>
            <p:cNvSpPr/>
            <p:nvPr/>
          </p:nvSpPr>
          <p:spPr>
            <a:xfrm>
              <a:off x="4071960" y="2638440"/>
              <a:ext cx="4714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天使走进实验室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天使投资人走进高校实验室，创业项目进行路演，接受投资人及行业专家的点评及指导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17"/>
          <p:cNvSpPr/>
          <p:nvPr/>
        </p:nvSpPr>
        <p:spPr>
          <a:xfrm>
            <a:off x="4071960" y="3780000"/>
            <a:ext cx="45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创新创业大赛（团队组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创业基金会统一为有创业意愿的学员报名参赛，给予学员更多与社会企业竞争学习的机会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AutoShape 6"/>
          <p:cNvSpPr/>
          <p:nvPr/>
        </p:nvSpPr>
        <p:spPr>
          <a:xfrm>
            <a:off x="223920" y="1600200"/>
            <a:ext cx="2617560" cy="3403440"/>
          </a:xfrm>
          <a:prstGeom prst="bevel">
            <a:avLst>
              <a:gd name="adj" fmla="val 1495"/>
            </a:avLst>
          </a:prstGeom>
          <a:gradFill rotWithShape="0">
            <a:gsLst>
              <a:gs pos="0">
                <a:srgbClr val="c5f381"/>
              </a:gs>
              <a:gs pos="100000">
                <a:srgbClr val="e6fac8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/>
          <p:cNvSpPr/>
          <p:nvPr/>
        </p:nvSpPr>
        <p:spPr>
          <a:xfrm>
            <a:off x="6300720" y="1595520"/>
            <a:ext cx="2617920" cy="3403440"/>
          </a:xfrm>
          <a:prstGeom prst="bevel">
            <a:avLst>
              <a:gd name="adj" fmla="val 1495"/>
            </a:avLst>
          </a:prstGeom>
          <a:gradFill rotWithShape="0">
            <a:gsLst>
              <a:gs pos="0">
                <a:srgbClr val="f3c581"/>
              </a:gs>
              <a:gs pos="100000">
                <a:srgbClr val="fae6c8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11" descr="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4"/>
          <p:cNvSpPr/>
          <p:nvPr/>
        </p:nvSpPr>
        <p:spPr>
          <a:xfrm>
            <a:off x="108000" y="396720"/>
            <a:ext cx="708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0" y="357120"/>
            <a:ext cx="708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申报条件（项目孵化类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247920" y="1585800"/>
            <a:ext cx="2617920" cy="3403800"/>
          </a:xfrm>
          <a:prstGeom prst="bevel">
            <a:avLst>
              <a:gd name="adj" fmla="val 1495"/>
            </a:avLst>
          </a:prstGeom>
          <a:gradFill rotWithShape="0">
            <a:gsLst>
              <a:gs pos="0">
                <a:srgbClr val="81d8f3"/>
              </a:gs>
              <a:gs pos="100000">
                <a:srgbClr val="c8eefa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401760" y="1303200"/>
            <a:ext cx="2152440" cy="5209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08080"/>
              </a:gs>
              <a:gs pos="100000">
                <a:srgbClr val="f4f4f4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544680" y="141768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申请对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3460680" y="1298520"/>
            <a:ext cx="2154240" cy="5209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08080"/>
              </a:gs>
              <a:gs pos="100000">
                <a:srgbClr val="f4f4f4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3552840" y="13939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申报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6572160" y="1298520"/>
            <a:ext cx="2152800" cy="5209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08080"/>
              </a:gs>
              <a:gs pos="100000">
                <a:srgbClr val="f4f4f4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1"/>
          <p:cNvSpPr/>
          <p:nvPr/>
        </p:nvSpPr>
        <p:spPr>
          <a:xfrm>
            <a:off x="6786720" y="13572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申报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2"/>
          <p:cNvSpPr/>
          <p:nvPr/>
        </p:nvSpPr>
        <p:spPr>
          <a:xfrm>
            <a:off x="115920" y="2013120"/>
            <a:ext cx="25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高校中</a:t>
            </a: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有志于创业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理工科在读研究生，少量其他学科的研究生也可申报。一年资助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100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个左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3"/>
          <p:cNvSpPr/>
          <p:nvPr/>
        </p:nvSpPr>
        <p:spPr>
          <a:xfrm>
            <a:off x="3321000" y="1981080"/>
            <a:ext cx="254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项目与申请人所学专业相关，自主研发，在技术上应已经比较成熟，具有良好的市场前景，并且具有较高的可产业化程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4"/>
          <p:cNvSpPr/>
          <p:nvPr/>
        </p:nvSpPr>
        <p:spPr>
          <a:xfrm>
            <a:off x="6541920" y="1952640"/>
            <a:ext cx="245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项目申报制，可个人申报，也可多人组成团队（不超过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人）申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5"/>
          <p:cNvSpPr/>
          <p:nvPr/>
        </p:nvSpPr>
        <p:spPr>
          <a:xfrm flipH="1">
            <a:off x="2853720" y="2631960"/>
            <a:ext cx="285480" cy="42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6"/>
          <p:cNvSpPr/>
          <p:nvPr/>
        </p:nvSpPr>
        <p:spPr>
          <a:xfrm flipH="1">
            <a:off x="3049560" y="2631960"/>
            <a:ext cx="285840" cy="42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7"/>
          <p:cNvSpPr/>
          <p:nvPr/>
        </p:nvSpPr>
        <p:spPr>
          <a:xfrm flipH="1">
            <a:off x="5857200" y="2695680"/>
            <a:ext cx="284040" cy="42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8"/>
          <p:cNvSpPr/>
          <p:nvPr/>
        </p:nvSpPr>
        <p:spPr>
          <a:xfrm flipH="1">
            <a:off x="6073200" y="2695680"/>
            <a:ext cx="284040" cy="42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1" descr="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383" name="Line 3"/>
          <p:cNvSpPr/>
          <p:nvPr/>
        </p:nvSpPr>
        <p:spPr>
          <a:xfrm>
            <a:off x="826920" y="1452600"/>
            <a:ext cx="180036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785880" y="5214960"/>
            <a:ext cx="180000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9"/>
          <p:cNvSpPr/>
          <p:nvPr/>
        </p:nvSpPr>
        <p:spPr>
          <a:xfrm>
            <a:off x="826920" y="2832120"/>
            <a:ext cx="180036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826920" y="1533600"/>
            <a:ext cx="1744920" cy="3610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7"/>
          <p:cNvSpPr/>
          <p:nvPr/>
        </p:nvSpPr>
        <p:spPr>
          <a:xfrm>
            <a:off x="2711520" y="1500120"/>
            <a:ext cx="5861160" cy="3643560"/>
          </a:xfrm>
          <a:prstGeom prst="rect">
            <a:avLst/>
          </a:prstGeom>
          <a:solidFill>
            <a:srgbClr val="b9cd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1"/>
          <p:cNvSpPr/>
          <p:nvPr/>
        </p:nvSpPr>
        <p:spPr>
          <a:xfrm>
            <a:off x="1285920" y="2357280"/>
            <a:ext cx="57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你可能的收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3"/>
          <p:cNvSpPr/>
          <p:nvPr/>
        </p:nvSpPr>
        <p:spPr>
          <a:xfrm>
            <a:off x="2643120" y="1428840"/>
            <a:ext cx="5857920" cy="41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80000" bIns="180000" anchor="t">
            <a:spAutoFit/>
          </a:bodyPr>
          <a:p>
            <a:pPr marL="171360" indent="-17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免费培训及相关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分三档项目资助奖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136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万元（得到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EFG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天使基金资助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1360">
              <a:lnSpc>
                <a:spcPct val="12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万元（真实创业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1360">
              <a:lnSpc>
                <a:spcPct val="12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千元（通过结项答辩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1360">
              <a:lnSpc>
                <a:spcPct val="12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专家一对一咨询辅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1360">
              <a:lnSpc>
                <a:spcPct val="12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基金会大量后续孵化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完善团队结构的机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直接连接符 22"/>
          <p:cNvSpPr/>
          <p:nvPr/>
        </p:nvSpPr>
        <p:spPr>
          <a:xfrm>
            <a:off x="2709720" y="1428840"/>
            <a:ext cx="6005520" cy="0"/>
          </a:xfrm>
          <a:prstGeom prst="line">
            <a:avLst/>
          </a:prstGeom>
          <a:ln w="442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23"/>
          <p:cNvSpPr/>
          <p:nvPr/>
        </p:nvSpPr>
        <p:spPr>
          <a:xfrm>
            <a:off x="2643120" y="5213520"/>
            <a:ext cx="6072120" cy="1440"/>
          </a:xfrm>
          <a:prstGeom prst="line">
            <a:avLst/>
          </a:prstGeom>
          <a:ln w="442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AutoShape 6"/>
          <p:cNvSpPr/>
          <p:nvPr/>
        </p:nvSpPr>
        <p:spPr>
          <a:xfrm>
            <a:off x="714240" y="1600200"/>
            <a:ext cx="2617920" cy="3403440"/>
          </a:xfrm>
          <a:prstGeom prst="bevel">
            <a:avLst>
              <a:gd name="adj" fmla="val 1495"/>
            </a:avLst>
          </a:prstGeom>
          <a:gradFill rotWithShape="0">
            <a:gsLst>
              <a:gs pos="0">
                <a:srgbClr val="c5f381"/>
              </a:gs>
              <a:gs pos="100000">
                <a:srgbClr val="e6fac8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1" descr="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4"/>
          <p:cNvSpPr/>
          <p:nvPr/>
        </p:nvSpPr>
        <p:spPr>
          <a:xfrm>
            <a:off x="108000" y="396720"/>
            <a:ext cx="708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0" y="357120"/>
            <a:ext cx="708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申报条件（ 创业培训类 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3738600" y="1585800"/>
            <a:ext cx="2617920" cy="3403800"/>
          </a:xfrm>
          <a:prstGeom prst="bevel">
            <a:avLst>
              <a:gd name="adj" fmla="val 1495"/>
            </a:avLst>
          </a:prstGeom>
          <a:gradFill rotWithShape="0">
            <a:gsLst>
              <a:gs pos="0">
                <a:srgbClr val="81d8f3"/>
              </a:gs>
              <a:gs pos="100000">
                <a:srgbClr val="c8eefa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4"/>
          <p:cNvSpPr/>
          <p:nvPr/>
        </p:nvSpPr>
        <p:spPr>
          <a:xfrm>
            <a:off x="892080" y="1303200"/>
            <a:ext cx="2152800" cy="5209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08080"/>
              </a:gs>
              <a:gs pos="100000">
                <a:srgbClr val="f4f4f4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1035000" y="14176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申请对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3951360" y="1298520"/>
            <a:ext cx="2154240" cy="5209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08080"/>
              </a:gs>
              <a:gs pos="100000">
                <a:srgbClr val="f4f4f4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4043520" y="139392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申报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2"/>
          <p:cNvSpPr/>
          <p:nvPr/>
        </p:nvSpPr>
        <p:spPr>
          <a:xfrm>
            <a:off x="606600" y="2013120"/>
            <a:ext cx="255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高校中</a:t>
            </a: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有志于创业但暂时没有创业项目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在读研究生（包括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MBA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，特别是财经、法律及商科类等。一年培训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100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个左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3"/>
          <p:cNvSpPr/>
          <p:nvPr/>
        </p:nvSpPr>
        <p:spPr>
          <a:xfrm>
            <a:off x="3811680" y="1981080"/>
            <a:ext cx="254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投递个人简历和开放问题答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5"/>
          <p:cNvSpPr/>
          <p:nvPr/>
        </p:nvSpPr>
        <p:spPr>
          <a:xfrm flipH="1">
            <a:off x="3344760" y="2631960"/>
            <a:ext cx="285840" cy="42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6"/>
          <p:cNvSpPr/>
          <p:nvPr/>
        </p:nvSpPr>
        <p:spPr>
          <a:xfrm flipH="1">
            <a:off x="3539520" y="2631960"/>
            <a:ext cx="285480" cy="42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1" descr="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406" name="Line 3"/>
          <p:cNvSpPr/>
          <p:nvPr/>
        </p:nvSpPr>
        <p:spPr>
          <a:xfrm>
            <a:off x="826920" y="1809720"/>
            <a:ext cx="180036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6"/>
          <p:cNvSpPr/>
          <p:nvPr/>
        </p:nvSpPr>
        <p:spPr>
          <a:xfrm>
            <a:off x="785880" y="3929040"/>
            <a:ext cx="180000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9"/>
          <p:cNvSpPr/>
          <p:nvPr/>
        </p:nvSpPr>
        <p:spPr>
          <a:xfrm>
            <a:off x="826920" y="3189240"/>
            <a:ext cx="180036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826920" y="1890720"/>
            <a:ext cx="1744920" cy="19670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7"/>
          <p:cNvSpPr/>
          <p:nvPr/>
        </p:nvSpPr>
        <p:spPr>
          <a:xfrm>
            <a:off x="2711520" y="1857240"/>
            <a:ext cx="6003720" cy="2000520"/>
          </a:xfrm>
          <a:prstGeom prst="rect">
            <a:avLst/>
          </a:prstGeom>
          <a:solidFill>
            <a:srgbClr val="b9cd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3"/>
          <p:cNvSpPr/>
          <p:nvPr/>
        </p:nvSpPr>
        <p:spPr>
          <a:xfrm>
            <a:off x="2714760" y="2214720"/>
            <a:ext cx="6000480" cy="14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80000" bIns="180000" anchor="t">
            <a:spAutoFit/>
          </a:bodyPr>
          <a:p>
            <a:pPr marL="171360" indent="-17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免费培训及相关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1360">
              <a:lnSpc>
                <a:spcPct val="12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1360">
              <a:lnSpc>
                <a:spcPct val="12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大量靠谱的项目和团队等你加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直接连接符 22"/>
          <p:cNvSpPr/>
          <p:nvPr/>
        </p:nvSpPr>
        <p:spPr>
          <a:xfrm>
            <a:off x="2709720" y="1785960"/>
            <a:ext cx="6005520" cy="0"/>
          </a:xfrm>
          <a:prstGeom prst="line">
            <a:avLst/>
          </a:prstGeom>
          <a:ln w="442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23"/>
          <p:cNvSpPr/>
          <p:nvPr/>
        </p:nvSpPr>
        <p:spPr>
          <a:xfrm>
            <a:off x="2714760" y="3929040"/>
            <a:ext cx="6072120" cy="1440"/>
          </a:xfrm>
          <a:prstGeom prst="line">
            <a:avLst/>
          </a:prstGeom>
          <a:ln w="442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1"/>
          <p:cNvSpPr/>
          <p:nvPr/>
        </p:nvSpPr>
        <p:spPr>
          <a:xfrm>
            <a:off x="1428840" y="1928880"/>
            <a:ext cx="57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你可能的收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36160" y="410760"/>
            <a:ext cx="4962600" cy="3366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报名途径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329840"/>
            <a:ext cx="8231040" cy="32641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6080" indent="-316080">
              <a:spcBef>
                <a:spcPts val="799"/>
              </a:spcBef>
              <a:buClr>
                <a:srgbClr val="ff0000"/>
              </a:buClr>
              <a:buFont typeface="微软雅黑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微软雅黑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</a:rPr>
              <a:t>月底启动报名，详情咨询本校研究生院，或关注本校官网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D:\14品牌建设\logo\内部logo\EFG\创业基金会logo.jpg"/>
          <p:cNvPicPr/>
          <p:nvPr/>
        </p:nvPicPr>
        <p:blipFill>
          <a:blip r:embed="rId1"/>
          <a:srcRect l="1367" t="34003" r="0" b="38002"/>
          <a:stretch/>
        </p:blipFill>
        <p:spPr>
          <a:xfrm>
            <a:off x="125280" y="120600"/>
            <a:ext cx="1766880" cy="501840"/>
          </a:xfrm>
          <a:prstGeom prst="rect">
            <a:avLst/>
          </a:prstGeom>
          <a:ln w="0">
            <a:noFill/>
          </a:ln>
        </p:spPr>
      </p:pic>
      <p:grpSp>
        <p:nvGrpSpPr>
          <p:cNvPr id="418" name="组合 14"/>
          <p:cNvGrpSpPr/>
          <p:nvPr/>
        </p:nvGrpSpPr>
        <p:grpSpPr>
          <a:xfrm>
            <a:off x="0" y="2593800"/>
            <a:ext cx="9144000" cy="3121200"/>
            <a:chOff x="0" y="2593800"/>
            <a:chExt cx="9144000" cy="3121200"/>
          </a:xfrm>
        </p:grpSpPr>
        <p:pic>
          <p:nvPicPr>
            <p:cNvPr id="419" name="Picture 3" descr="C:\Users\len\Desktop\ic01700903.jpg"/>
            <p:cNvPicPr/>
            <p:nvPr/>
          </p:nvPicPr>
          <p:blipFill>
            <a:blip r:embed="rId2"/>
            <a:srcRect l="0" t="48535" r="23919" b="18696"/>
            <a:stretch/>
          </p:blipFill>
          <p:spPr>
            <a:xfrm>
              <a:off x="7194240" y="2593800"/>
              <a:ext cx="1937880" cy="10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" descr="cover"/>
            <p:cNvPicPr/>
            <p:nvPr/>
          </p:nvPicPr>
          <p:blipFill>
            <a:blip r:embed="rId3"/>
            <a:srcRect l="0" t="94294" r="0" b="0"/>
            <a:stretch/>
          </p:blipFill>
          <p:spPr>
            <a:xfrm>
              <a:off x="0" y="3477240"/>
              <a:ext cx="9144000" cy="22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矩形 9"/>
            <p:cNvSpPr/>
            <p:nvPr/>
          </p:nvSpPr>
          <p:spPr>
            <a:xfrm>
              <a:off x="3647880" y="3671640"/>
              <a:ext cx="5143680" cy="15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0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联系我们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20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20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电话：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1-5523342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20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邮箱：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jp@stefg.or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20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地址：上海市杨浦区国定东路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号创业接力大楼（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号楼）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20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邮编：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43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738"/>
                </a:lnSpc>
                <a:tabLst>
                  <a:tab algn="l" pos="0"/>
                  <a:tab algn="l" pos="420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   </a:t>
              </a:r>
              <a:r>
                <a:rPr b="0" lang="zh-CN" sz="13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网址：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www.stefg.co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Text Box 2"/>
          <p:cNvSpPr/>
          <p:nvPr/>
        </p:nvSpPr>
        <p:spPr>
          <a:xfrm>
            <a:off x="5801040" y="1219320"/>
            <a:ext cx="2436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360" rIns="7236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  <a:ea typeface="华文细黑"/>
              </a:rPr>
              <a:t>Thank you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9" descr="D:\14品牌建设\创业基金会微信.jpg"/>
          <p:cNvPicPr/>
          <p:nvPr/>
        </p:nvPicPr>
        <p:blipFill>
          <a:blip r:embed="rId4"/>
          <a:stretch/>
        </p:blipFill>
        <p:spPr>
          <a:xfrm>
            <a:off x="826920" y="2641680"/>
            <a:ext cx="24274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4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C:\Users\Calvin\Desktop\3955670170_b885a39362.jpg"/>
          <p:cNvPicPr/>
          <p:nvPr/>
        </p:nvPicPr>
        <p:blipFill>
          <a:blip r:embed="rId1"/>
          <a:stretch/>
        </p:blipFill>
        <p:spPr>
          <a:xfrm>
            <a:off x="0" y="517680"/>
            <a:ext cx="5572080" cy="5219640"/>
          </a:xfrm>
          <a:prstGeom prst="rect">
            <a:avLst/>
          </a:prstGeom>
          <a:ln w="0">
            <a:noFill/>
          </a:ln>
        </p:spPr>
      </p:pic>
      <p:sp>
        <p:nvSpPr>
          <p:cNvPr id="227" name="圆角矩形 5"/>
          <p:cNvSpPr/>
          <p:nvPr/>
        </p:nvSpPr>
        <p:spPr>
          <a:xfrm>
            <a:off x="5589720" y="3706920"/>
            <a:ext cx="3166920" cy="1187280"/>
          </a:xfrm>
          <a:prstGeom prst="roundRect">
            <a:avLst>
              <a:gd name="adj" fmla="val 16667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益机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6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C:\Users\Calvin\Desktop\975433148_4c62648b87_b.jpg"/>
          <p:cNvPicPr/>
          <p:nvPr/>
        </p:nvPicPr>
        <p:blipFill>
          <a:blip r:embed="rId1"/>
          <a:stretch/>
        </p:blipFill>
        <p:spPr>
          <a:xfrm>
            <a:off x="3298680" y="538200"/>
            <a:ext cx="5881680" cy="4894200"/>
          </a:xfrm>
          <a:prstGeom prst="rect">
            <a:avLst/>
          </a:prstGeom>
          <a:ln w="0">
            <a:noFill/>
          </a:ln>
        </p:spPr>
      </p:pic>
      <p:sp>
        <p:nvSpPr>
          <p:cNvPr id="230" name="圆角矩形 5"/>
          <p:cNvSpPr/>
          <p:nvPr/>
        </p:nvSpPr>
        <p:spPr>
          <a:xfrm>
            <a:off x="217440" y="650880"/>
            <a:ext cx="5291280" cy="1187280"/>
          </a:xfrm>
          <a:prstGeom prst="roundRect">
            <a:avLst>
              <a:gd name="adj" fmla="val 16667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专注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帮助创业路上的每一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矩形 6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560" y="2347560"/>
            <a:ext cx="87138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市大学生科技创业基金会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矩形 6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0560" y="2347560"/>
            <a:ext cx="87138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上海市</a:t>
            </a:r>
            <a:r>
              <a:rPr b="1" lang="zh-CN" sz="5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学生科技创业基金会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6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50560" y="2347560"/>
            <a:ext cx="87850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上海市大学生</a:t>
            </a:r>
            <a:r>
              <a:rPr b="1" lang="zh-CN" sz="5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技创业基金会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6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560" y="2347560"/>
            <a:ext cx="87850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上海市大学生科技</a:t>
            </a:r>
            <a:r>
              <a:rPr b="1" lang="zh-CN" sz="5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业基金会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6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50560" y="2347560"/>
            <a:ext cx="87850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48400" indent="-24840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业基金会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2T04:15:50Z</dcterms:created>
  <dc:creator>Stephanie</dc:creator>
  <dc:description/>
  <dc:language>en-US</dc:language>
  <cp:lastModifiedBy>len</cp:lastModifiedBy>
  <dcterms:modified xsi:type="dcterms:W3CDTF">2015-05-13T02:24:26Z</dcterms:modified>
  <cp:revision>43</cp:revision>
  <dc:subject/>
  <dc:title>上海市大学生科技 创业基金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</Properties>
</file>